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12B-6F42-4203-AE2E-9F7A763A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6BC-AFEB-460F-B0B1-57461710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8F6-CCBD-4B85-AE25-50F163FA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306-3715-454A-9DF1-B0BB4D9A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B762-7661-4B4E-823B-0DC7983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E7A-451C-4571-8F42-FD2D276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8669-621F-43E5-81E1-EDBE58B5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89D7-301D-4796-A82F-727E73F2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828E-4F80-4709-BC34-F11E0EFA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F03-1AAD-4ECF-B841-BB0727E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A184-5FB6-419A-A894-BA65D0A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400-AF22-4F79-9812-F622E43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506-3A0C-47E1-B4A2-4948F32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84E8-A085-4438-B7C7-736E39E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9D1A-A210-4D38-9C83-377996F7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F0C-B741-4B06-A0AE-0A6ACDC1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DEC-784F-4C67-90B7-286EB399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516-88A2-4282-965D-57A80D6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E22-63EB-4758-9958-75291737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B69-C5F9-4A77-917E-D88E1979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203-BAA5-47EE-B3E7-EBC622A6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0C8-48ED-4D7B-8103-FFBE467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7FA-F3D7-40FA-94E5-1F8C2652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D0C-848B-4CE5-9E12-40AAA0C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F3F0-2AE6-4C79-ADC2-152E088E3E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3EF-8139-45A5-B9F2-8C9B3C94CE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751746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rutina de Pablo y Maria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Tatiana tinsle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75"/>
            </a:gs>
            <a:gs pos="50000">
              <a:srgbClr val="9933ff"/>
            </a:gs>
            <a:gs pos="100000">
              <a:srgbClr val="46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blo y Mari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pier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mpr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van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gu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6520" y="1600200"/>
          <a:ext cx="404028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600200"/>
                    <a:ext cx="40402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3333960" cy="22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uchacho y la muchach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v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cara. Y el muchacho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ei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 la navaja y la crema de afeitar. La muchacha no se afeita porque no tiene tiemp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477120" y="3124080"/>
            <a:ext cx="2381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3962520"/>
            <a:ext cx="13320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" dur="1" fill="hold"/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uchach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ma una duc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se lava el pelo con el cham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chach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b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no se lava el pelo h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6160" y="1599840"/>
            <a:ext cx="40402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201760" cy="330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19720" y="3733920"/>
            <a:ext cx="361944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los s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cepilla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los dientes con un tubo de pasta dentifrica y el cepillo de diente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343400" y="335268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28576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 s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maqui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lla 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ne la ro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l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cepil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 pelo con un cepillo. No se mira en el espejo cuando se cepill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802480" y="0"/>
            <a:ext cx="3341520" cy="3419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95880" y="3886200"/>
            <a:ext cx="2067120" cy="206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143000" y="426708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b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 mi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 el espejo cuand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e pei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 pelo con un peine. Ello se pone la ropa. El usa col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6160" y="1599840"/>
            <a:ext cx="4040280" cy="4530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08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73392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934320" y="2971800"/>
            <a:ext cx="1903320" cy="297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572000" y="3124080"/>
            <a:ext cx="2187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0f4de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 se sientan en la silla en la mesa. Pablo y Maria desayunan. Para desayuno comen el cereal, el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rancés tostad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un vaso de jugo de nar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402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6160" y="3941280"/>
            <a:ext cx="404028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4191120" cy="29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629400" y="304812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48520" y="5181480"/>
            <a:ext cx="2511360" cy="15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alphaModFix amt="0"/>
          </a:blip>
          <a:stretch/>
        </p:blipFill>
        <p:spPr>
          <a:xfrm>
            <a:off x="304920" y="520056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36:46Z</dcterms:created>
  <dc:creator>tinsleybusbytat</dc:creator>
  <dc:description/>
  <dc:language>en-US</dc:language>
  <cp:lastModifiedBy>tinsleybusbytat</cp:lastModifiedBy>
  <dcterms:modified xsi:type="dcterms:W3CDTF">2012-04-05T15:33:53Z</dcterms:modified>
  <cp:revision>11</cp:revision>
  <dc:subject/>
  <dc:title>La rutina de Pablo y Maria</dc:title>
</cp:coreProperties>
</file>